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D56-0D2B-4085-8C43-04A31B74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078-81B1-4EEA-8CDD-596A3798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55D-B032-468B-A74B-C7D4B6E2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56AD-2F4F-49AF-818E-812AED46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932CB-0761-4587-8709-1BB55E92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D49F0-F2A0-4221-B6F8-F07967EA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7C2F1-6A45-4933-B912-C7B4C0B4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A152A-EDA0-4480-8C8C-9660AA74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260E7-E904-46F0-8472-9EF19EAA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AD07C-2C76-48AB-8D3C-1252308E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690D0-7270-41B4-9699-40D7858D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F3D9-9354-41F5-A48F-466CCDF2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B3937-BEAD-4D1D-8A22-BDB7A5B2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54338-917A-4048-AD56-BA7E2CEA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EA38F-DFBA-4672-B26E-3BB86D27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0C617-7792-4249-86C0-9BA8665E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EDA37-DE77-4049-A2F6-67AD0DA4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705-C4EE-4790-A16A-B3AD2B90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EC6-5362-45F0-B3F4-3398C4E1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FB6-8E4D-4714-A3F5-EA631F38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57F-01EA-4676-B6CC-9784B191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5155-0862-428D-B61A-33FA6FF9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3FC-E2D0-4248-9AB8-B11DBE29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FF5-1085-480D-9124-FA5C4A6B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1C84-F662-491D-A371-13CD732D43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6CD2-7960-4A49-A4F5-EBAB256369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39320"/>
            <a:ext cx="85345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Tahoma"/>
              </a:rPr>
              <a:t>Me llamo __________ Clase 8 IM</a:t>
            </a:r>
            <a:br>
              <a:rPr sz="4000"/>
            </a:br>
            <a:r>
              <a:rPr b="0" lang="en-US" sz="4000" spc="-1" strike="noStrike">
                <a:solidFill>
                  <a:srgbClr val="33cccc"/>
                </a:solidFill>
                <a:latin typeface="Tahoma"/>
              </a:rPr>
              <a:t>La fecha es el 23 de marzo del 20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oposito # 37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¿Qué hiciste el verano pasad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un parrafo de un minimo de 4 oraciones, expl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¿Que te gusta o interesa hacer en durante las vacaciones de verano?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¿Que no te gusta hac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l Pret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  <a:ea typeface="Tahoma"/>
              </a:rPr>
              <a:t>é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rito de los verbos en –AR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Stating past actions)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xpress an action that began and ended at a definite time in the past you use a tense calle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preteri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or 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Jos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s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ó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l viernes pasado en la play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-Yo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viaj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é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a Mexico hace dos añ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¿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Estudias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tú durante el veran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Tahoma"/>
              </a:rPr>
              <a:t>Conjugación del Pretérito</a:t>
            </a:r>
            <a:br>
              <a:rPr sz="44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(conjugation in the preterit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onjugate –AR verbs in the preterite, you REPLACE the –AR ending, and ADD the follow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-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Él Ella U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Nosot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llos Ellas U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300560" y="380988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84120" y="429732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a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90120" y="4830840"/>
            <a:ext cx="5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81960" y="5440320"/>
            <a:ext cx="14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a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53240" y="597384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a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o, how would you conjugate the followi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905120"/>
          <a:ext cx="8229600" cy="4373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Hab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Nad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Tom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Ahora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a la oracion con el verbo en el preterito y traduce la orac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en no _________ el verano pasado. (viaj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 _________ con mi amiga ayer. (habl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¿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ú _________ en la playa en julio? (nad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Nosotros __________ un examen la semada pasada. (tom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rea # 3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BOO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pia y respon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storieta 7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. 1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BOO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eta p. 5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3:26:18Z</dcterms:created>
  <dc:creator>Helen Zumaeta</dc:creator>
  <dc:description/>
  <dc:language>en-US</dc:language>
  <cp:lastModifiedBy>Helen Zumaeta</cp:lastModifiedBy>
  <dcterms:modified xsi:type="dcterms:W3CDTF">2012-03-26T14:03:22Z</dcterms:modified>
  <cp:revision>3</cp:revision>
  <dc:subject/>
  <dc:title>Me llamo __________ Clase 8 IM La fecha es el 23 de marzo del 2012</dc:title>
</cp:coreProperties>
</file>